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2001-ECA7-4BE9-ADF4-E49650B0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8AC3-67FA-4F47-84BE-DAFB5FB0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D117-F223-4057-8A9F-C0795B05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0FD7-2202-40CB-82B1-6FE0C3B2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413D-A2A3-48E0-8E88-3BC11A20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F762-2C78-430A-83FA-60276060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1BC7-439C-44F9-ABC6-192F1E6F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E696-EDE2-4EE6-B36D-C5EACBEB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392F-A69C-4BB0-80E4-4A4FB3B5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728F-A6DD-4061-AA39-E100E14D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0E2C-CC74-4B36-8914-31D8856E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D8E1-44DF-4396-AE51-F05A4429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7110-3070-48FA-9763-CF41546DE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488880" y="1557360"/>
            <a:ext cx="9144000" cy="3750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ОРГАНИЗАЦИЯ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и КОНТРО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РАБОТЫ Д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ПО ОЗДОРОВЛ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88880" y="5661000"/>
            <a:ext cx="914400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Заведующий структурным подразделением                    Ключникова Наталья Никола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00160" y="333360"/>
            <a:ext cx="928980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государственное бюджетное общеобразовательное   учреждение Самарской области </a:t>
            </a:r>
            <a:br>
              <a:rPr sz="1200"/>
            </a:b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 средняя общеобразовательная школа №1 «Образовательный центр» п.г.т. Стройкерамика   муниципального района Волжский Самарской област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структурное подразделение «Детский сад «Солнышк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7"/>
          <p:cNvSpPr/>
          <p:nvPr/>
        </p:nvSpPr>
        <p:spPr>
          <a:xfrm>
            <a:off x="272880" y="642960"/>
            <a:ext cx="9433080" cy="8254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помещений детского са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вязанных с пребыванием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332720" y="1675080"/>
            <a:ext cx="7387560" cy="4513320"/>
            <a:chOff x="1332720" y="1675080"/>
            <a:chExt cx="7387560" cy="4513320"/>
          </a:xfrm>
        </p:grpSpPr>
        <p:sp>
          <p:nvSpPr>
            <p:cNvPr id="220" name="_s39964"/>
            <p:cNvSpPr/>
            <p:nvPr/>
          </p:nvSpPr>
          <p:spPr>
            <a:xfrm flipH="1" flipV="1">
              <a:off x="3718800" y="313272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39963"/>
            <p:cNvSpPr/>
            <p:nvPr/>
          </p:nvSpPr>
          <p:spPr>
            <a:xfrm>
              <a:off x="2143440" y="2170440"/>
              <a:ext cx="1847520" cy="1128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Каче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кущ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бор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39968"/>
            <p:cNvSpPr/>
            <p:nvPr/>
          </p:nvSpPr>
          <p:spPr>
            <a:xfrm flipH="1">
              <a:off x="317700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39967"/>
            <p:cNvSpPr/>
            <p:nvPr/>
          </p:nvSpPr>
          <p:spPr>
            <a:xfrm>
              <a:off x="1332720" y="3367440"/>
              <a:ext cx="1847520" cy="1128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облю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част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енераль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боро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39972"/>
            <p:cNvSpPr/>
            <p:nvPr/>
          </p:nvSpPr>
          <p:spPr>
            <a:xfrm flipH="1">
              <a:off x="3718800" y="432864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39971"/>
            <p:cNvSpPr/>
            <p:nvPr/>
          </p:nvSpPr>
          <p:spPr>
            <a:xfrm>
              <a:off x="2143440" y="4564440"/>
              <a:ext cx="1847520" cy="1128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еспечен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ем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з. средств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39976"/>
            <p:cNvSpPr/>
            <p:nvPr/>
          </p:nvSpPr>
          <p:spPr>
            <a:xfrm>
              <a:off x="5025240" y="4492800"/>
              <a:ext cx="0" cy="5666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39975"/>
            <p:cNvSpPr/>
            <p:nvPr/>
          </p:nvSpPr>
          <p:spPr>
            <a:xfrm>
              <a:off x="4102560" y="5059800"/>
              <a:ext cx="1847520" cy="1128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хническ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справ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орудования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39970"/>
            <p:cNvSpPr/>
            <p:nvPr/>
          </p:nvSpPr>
          <p:spPr>
            <a:xfrm>
              <a:off x="5675760" y="432864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39969"/>
            <p:cNvSpPr/>
            <p:nvPr/>
          </p:nvSpPr>
          <p:spPr>
            <a:xfrm>
              <a:off x="6062040" y="4564440"/>
              <a:ext cx="1847520" cy="1128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аркировк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ебели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я, бель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39962"/>
            <p:cNvSpPr/>
            <p:nvPr/>
          </p:nvSpPr>
          <p:spPr>
            <a:xfrm>
              <a:off x="594468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39954"/>
            <p:cNvSpPr/>
            <p:nvPr/>
          </p:nvSpPr>
          <p:spPr>
            <a:xfrm>
              <a:off x="6872760" y="3367440"/>
              <a:ext cx="1847520" cy="1128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ветривания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39974"/>
            <p:cNvSpPr/>
            <p:nvPr/>
          </p:nvSpPr>
          <p:spPr>
            <a:xfrm flipV="1">
              <a:off x="5675760" y="313272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39973"/>
            <p:cNvSpPr/>
            <p:nvPr/>
          </p:nvSpPr>
          <p:spPr>
            <a:xfrm>
              <a:off x="6062040" y="2170440"/>
              <a:ext cx="1847520" cy="11286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Освещение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9961"/>
            <p:cNvSpPr/>
            <p:nvPr/>
          </p:nvSpPr>
          <p:spPr>
            <a:xfrm flipV="1">
              <a:off x="5025240" y="2801880"/>
              <a:ext cx="0" cy="5662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39953"/>
            <p:cNvSpPr/>
            <p:nvPr/>
          </p:nvSpPr>
          <p:spPr>
            <a:xfrm>
              <a:off x="4102560" y="1675080"/>
              <a:ext cx="1847520" cy="11286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мперату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здух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9952"/>
            <p:cNvSpPr/>
            <p:nvPr/>
          </p:nvSpPr>
          <p:spPr>
            <a:xfrm>
              <a:off x="4102560" y="3368880"/>
              <a:ext cx="1847520" cy="11289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7"/>
          <p:cNvSpPr/>
          <p:nvPr/>
        </p:nvSpPr>
        <p:spPr>
          <a:xfrm>
            <a:off x="272880" y="836640"/>
            <a:ext cx="9433080" cy="55825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Оптимальное использование комплекса оздоровительных мероприятий в условиях дошкольного учреждения привело к определенным положительным результат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за период 2009 -2011гг. произошло увеличение количества детей со 2-ой группой – на 3% и снижение количества детей с 3-ей группой здоровья на 4,9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за период 2009-2011гг. снизилось количество дней, пропущенных одним ребенком по болезни  (с 6,8 до 6,1), </a:t>
            </a:r>
            <a:r>
              <a:rPr b="1" lang="ru-RU" sz="1700" spc="-1" strike="noStrike">
                <a:solidFill>
                  <a:srgbClr val="0033cc"/>
                </a:solidFill>
                <a:latin typeface="Arial"/>
              </a:rPr>
              <a:t>что ниже среднего районного показателя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случаев заболеваний в 2011 году по сравнению с 2009 годом уменьшилось на 17 (с 192 до 17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-   в 2011 году снизилась заболеваемость на 1000 детей по сравнению с 2009 годом на 131 (с 1477 до 1346), что ниже среднего районного показ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0" y="260280"/>
            <a:ext cx="929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7"/>
          <p:cNvSpPr/>
          <p:nvPr/>
        </p:nvSpPr>
        <p:spPr>
          <a:xfrm>
            <a:off x="200160" y="620640"/>
            <a:ext cx="950580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равнительный анализ заболеваемости на 1000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-6019920" y="-4800600"/>
            <a:ext cx="3343320" cy="2506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-6019920" y="-4800600"/>
            <a:ext cx="3343320" cy="2506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-6019920" y="-4800600"/>
            <a:ext cx="3343320" cy="2506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44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200160" y="333360"/>
            <a:ext cx="92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МДОУ детский сад №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849240" y="1844640"/>
          <a:ext cx="8410680" cy="3686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240" y="1844640"/>
                    <a:ext cx="841068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8"/>
          <p:cNvSpPr/>
          <p:nvPr/>
        </p:nvSpPr>
        <p:spPr>
          <a:xfrm>
            <a:off x="631800" y="5661000"/>
            <a:ext cx="8899560" cy="612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Вывод: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 2009 по 2011 год заболеваемость на одного ребенка снизилась на 131      (с 1477 до 134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00160" y="692280"/>
            <a:ext cx="9418320" cy="5256000"/>
            <a:chOff x="200160" y="692280"/>
            <a:chExt cx="9418320" cy="5256000"/>
          </a:xfrm>
        </p:grpSpPr>
        <p:sp>
          <p:nvSpPr>
            <p:cNvPr id="46" name="_s2076"/>
            <p:cNvSpPr/>
            <p:nvPr/>
          </p:nvSpPr>
          <p:spPr>
            <a:xfrm>
              <a:off x="773280" y="692280"/>
              <a:ext cx="8375040" cy="986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Организационно-методическое и материаль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обеспечение оздоровления дет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33"/>
            <p:cNvSpPr/>
            <p:nvPr/>
          </p:nvSpPr>
          <p:spPr>
            <a:xfrm>
              <a:off x="2144880" y="2200320"/>
              <a:ext cx="16887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Рациональ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1033"/>
            <p:cNvSpPr/>
            <p:nvPr/>
          </p:nvSpPr>
          <p:spPr>
            <a:xfrm>
              <a:off x="7831800" y="2200320"/>
              <a:ext cx="1688400" cy="783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б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 родителя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33"/>
            <p:cNvSpPr/>
            <p:nvPr/>
          </p:nvSpPr>
          <p:spPr>
            <a:xfrm>
              <a:off x="5888520" y="2200320"/>
              <a:ext cx="16923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Фор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методическ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бщ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33"/>
            <p:cNvSpPr/>
            <p:nvPr/>
          </p:nvSpPr>
          <p:spPr>
            <a:xfrm>
              <a:off x="4015800" y="2200320"/>
              <a:ext cx="16905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3"/>
            <p:cNvSpPr/>
            <p:nvPr/>
          </p:nvSpPr>
          <p:spPr>
            <a:xfrm>
              <a:off x="200160" y="2200320"/>
              <a:ext cx="16905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Создание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услов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3"/>
            <p:cNvSpPr/>
            <p:nvPr/>
          </p:nvSpPr>
          <p:spPr>
            <a:xfrm>
              <a:off x="200160" y="3355560"/>
              <a:ext cx="1688400" cy="2592720"/>
            </a:xfrm>
            <a:custGeom>
              <a:avLst/>
              <a:gdLst>
                <a:gd name="textAreaLeft" fmla="*/ 82080 w 1688400"/>
                <a:gd name="textAreaRight" fmla="*/ 1606320 w 1688400"/>
                <a:gd name="textAreaTop" fmla="*/ 82080 h 2592720"/>
                <a:gd name="textAreaBottom" fmla="*/ 2510640 h 2592720"/>
              </a:gdLst>
              <a:ahLst/>
              <a:rect l="textAreaLeft" t="textAreaTop" r="textAreaRight" b="textAreaBottom"/>
              <a:pathLst>
                <a:path w="21600" h="33167">
                  <a:moveTo>
                    <a:pt x="3600" y="0"/>
                  </a:moveTo>
                  <a:arcTo wR="3600" hR="3600" stAng="16200000" swAng="-5400000"/>
                  <a:lnTo>
                    <a:pt x="0" y="29567"/>
                  </a:lnTo>
                  <a:arcTo wR="3600" hR="3600" stAng="10800000" swAng="-5400000"/>
                  <a:lnTo>
                    <a:pt x="18000" y="331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Гибкий режим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Оборуд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портзала;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Оборудова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портивн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уголков 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группах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боруд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портив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лощадк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3"/>
            <p:cNvSpPr/>
            <p:nvPr/>
          </p:nvSpPr>
          <p:spPr>
            <a:xfrm>
              <a:off x="2072520" y="3355560"/>
              <a:ext cx="1688760" cy="2592720"/>
            </a:xfrm>
            <a:custGeom>
              <a:avLst/>
              <a:gdLst>
                <a:gd name="textAreaLeft" fmla="*/ 82440 w 1688760"/>
                <a:gd name="textAreaRight" fmla="*/ 1606320 w 1688760"/>
                <a:gd name="textAreaTop" fmla="*/ 82440 h 2592720"/>
                <a:gd name="textAreaBottom" fmla="*/ 2510280 h 2592720"/>
              </a:gdLst>
              <a:ahLst/>
              <a:rect l="textAreaLeft" t="textAreaTop" r="textAreaRight" b="textAreaBottom"/>
              <a:pathLst>
                <a:path w="21600" h="33160">
                  <a:moveTo>
                    <a:pt x="3600" y="0"/>
                  </a:moveTo>
                  <a:arcTo wR="3600" hR="3600" stAng="16200000" swAng="-5400000"/>
                  <a:lnTo>
                    <a:pt x="0" y="29560"/>
                  </a:lnTo>
                  <a:arcTo wR="3600" hR="3600" stAng="10800000" swAng="-5400000"/>
                  <a:lnTo>
                    <a:pt x="18000" y="33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Зимне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осен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-Работ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кружк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3994200" y="3355560"/>
              <a:ext cx="1688760" cy="2592720"/>
            </a:xfrm>
            <a:custGeom>
              <a:avLst/>
              <a:gdLst>
                <a:gd name="textAreaLeft" fmla="*/ 82440 w 1688760"/>
                <a:gd name="textAreaRight" fmla="*/ 1606320 w 1688760"/>
                <a:gd name="textAreaTop" fmla="*/ 82440 h 2592720"/>
                <a:gd name="textAreaBottom" fmla="*/ 2510280 h 2592720"/>
              </a:gdLst>
              <a:ahLst/>
              <a:rect l="textAreaLeft" t="textAreaTop" r="textAreaRight" b="textAreaBottom"/>
              <a:pathLst>
                <a:path w="21600" h="33160">
                  <a:moveTo>
                    <a:pt x="3600" y="0"/>
                  </a:moveTo>
                  <a:arcTo wR="3600" hR="3600" stAng="16200000" swAng="-5400000"/>
                  <a:lnTo>
                    <a:pt x="0" y="29560"/>
                  </a:lnTo>
                  <a:arcTo wR="3600" hR="3600" stAng="10800000" swAng="-5400000"/>
                  <a:lnTo>
                    <a:pt x="18000" y="33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ежи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итания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циональ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итание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Втор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завтрак (соки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Питьево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ежим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3"/>
            <p:cNvSpPr/>
            <p:nvPr/>
          </p:nvSpPr>
          <p:spPr>
            <a:xfrm>
              <a:off x="5925960" y="3355560"/>
              <a:ext cx="1688400" cy="2592720"/>
            </a:xfrm>
            <a:custGeom>
              <a:avLst/>
              <a:gdLst>
                <a:gd name="textAreaLeft" fmla="*/ 82080 w 1688400"/>
                <a:gd name="textAreaRight" fmla="*/ 1606320 w 1688400"/>
                <a:gd name="textAreaTop" fmla="*/ 82080 h 2592720"/>
                <a:gd name="textAreaBottom" fmla="*/ 2510640 h 2592720"/>
              </a:gdLst>
              <a:ahLst/>
              <a:rect l="textAreaLeft" t="textAreaTop" r="textAreaRight" b="textAreaBottom"/>
              <a:pathLst>
                <a:path w="21600" h="33167">
                  <a:moveTo>
                    <a:pt x="3600" y="0"/>
                  </a:moveTo>
                  <a:arcTo wR="3600" hR="3600" stAng="16200000" swAng="-5400000"/>
                  <a:lnTo>
                    <a:pt x="0" y="29567"/>
                  </a:lnTo>
                  <a:arcTo wR="3600" hR="3600" stAng="10800000" swAng="-5400000"/>
                  <a:lnTo>
                    <a:pt x="18000" y="331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едсоветы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бмен опыто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боты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еминары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Консультаци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Изуч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рограм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инноваци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Смотры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конкурсы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3"/>
            <p:cNvSpPr/>
            <p:nvPr/>
          </p:nvSpPr>
          <p:spPr>
            <a:xfrm>
              <a:off x="7788960" y="3355560"/>
              <a:ext cx="1829520" cy="2592720"/>
            </a:xfrm>
            <a:custGeom>
              <a:avLst/>
              <a:gdLst>
                <a:gd name="textAreaLeft" fmla="*/ 89280 w 1829520"/>
                <a:gd name="textAreaRight" fmla="*/ 1740240 w 1829520"/>
                <a:gd name="textAreaTop" fmla="*/ 89280 h 2592720"/>
                <a:gd name="textAreaBottom" fmla="*/ 2503440 h 2592720"/>
              </a:gdLst>
              <a:ahLst/>
              <a:rect l="textAreaLeft" t="textAreaTop" r="textAreaRight" b="textAreaBottom"/>
              <a:pathLst>
                <a:path w="21600" h="30609">
                  <a:moveTo>
                    <a:pt x="3600" y="0"/>
                  </a:moveTo>
                  <a:arcTo wR="3600" hR="3600" stAng="16200000" swAng="-5400000"/>
                  <a:lnTo>
                    <a:pt x="0" y="27009"/>
                  </a:lnTo>
                  <a:arcTo wR="3600" hR="3600" stAng="10800000" swAng="-5400000"/>
                  <a:lnTo>
                    <a:pt x="18000" y="306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одительск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обрания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Анкетирование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Консультаци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овмест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раздник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Дни открыт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дверей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Выпус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газет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881600" y="1628640"/>
            <a:ext cx="0" cy="5781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5240" y="1773360"/>
            <a:ext cx="76309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524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0816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524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69796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8196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3688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69796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5324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8160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7"/>
          <p:cNvSpPr/>
          <p:nvPr/>
        </p:nvSpPr>
        <p:spPr>
          <a:xfrm>
            <a:off x="488880" y="642960"/>
            <a:ext cx="921708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хема оздоровительных меро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92160" y="1197000"/>
            <a:ext cx="8064000" cy="5400360"/>
            <a:chOff x="992160" y="1197000"/>
            <a:chExt cx="8064000" cy="5400360"/>
          </a:xfrm>
        </p:grpSpPr>
        <p:sp>
          <p:nvSpPr>
            <p:cNvPr id="72" name="_s1028"/>
            <p:cNvSpPr/>
            <p:nvPr/>
          </p:nvSpPr>
          <p:spPr>
            <a:xfrm flipH="1" flipV="1">
              <a:off x="3629880" y="2215080"/>
              <a:ext cx="1076400" cy="1359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30"/>
            <p:cNvSpPr/>
            <p:nvPr/>
          </p:nvSpPr>
          <p:spPr>
            <a:xfrm flipH="1" flipV="1">
              <a:off x="2793960" y="2998080"/>
              <a:ext cx="1713240" cy="722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2"/>
            <p:cNvSpPr/>
            <p:nvPr/>
          </p:nvSpPr>
          <p:spPr>
            <a:xfrm flipH="1">
              <a:off x="2364840" y="3919680"/>
              <a:ext cx="20692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4"/>
            <p:cNvSpPr/>
            <p:nvPr/>
          </p:nvSpPr>
          <p:spPr>
            <a:xfrm flipH="1">
              <a:off x="2706840" y="4119480"/>
              <a:ext cx="1800360" cy="759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6"/>
            <p:cNvSpPr/>
            <p:nvPr/>
          </p:nvSpPr>
          <p:spPr>
            <a:xfrm flipH="1">
              <a:off x="3607200" y="4264920"/>
              <a:ext cx="1100880" cy="1393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8"/>
            <p:cNvSpPr/>
            <p:nvPr/>
          </p:nvSpPr>
          <p:spPr>
            <a:xfrm>
              <a:off x="4982400" y="4318200"/>
              <a:ext cx="1800" cy="1652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40"/>
            <p:cNvSpPr/>
            <p:nvPr/>
          </p:nvSpPr>
          <p:spPr>
            <a:xfrm>
              <a:off x="5256720" y="4264920"/>
              <a:ext cx="1105920" cy="1393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42"/>
            <p:cNvSpPr/>
            <p:nvPr/>
          </p:nvSpPr>
          <p:spPr>
            <a:xfrm>
              <a:off x="5455440" y="4118040"/>
              <a:ext cx="1885320" cy="793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44"/>
            <p:cNvSpPr/>
            <p:nvPr/>
          </p:nvSpPr>
          <p:spPr>
            <a:xfrm>
              <a:off x="5529240" y="3918240"/>
              <a:ext cx="21535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46"/>
            <p:cNvSpPr/>
            <p:nvPr/>
          </p:nvSpPr>
          <p:spPr>
            <a:xfrm flipV="1">
              <a:off x="5455440" y="2997720"/>
              <a:ext cx="1713240" cy="72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48"/>
            <p:cNvSpPr/>
            <p:nvPr/>
          </p:nvSpPr>
          <p:spPr>
            <a:xfrm flipV="1">
              <a:off x="5254560" y="2215080"/>
              <a:ext cx="1076040" cy="1359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50"/>
            <p:cNvSpPr/>
            <p:nvPr/>
          </p:nvSpPr>
          <p:spPr>
            <a:xfrm flipV="1">
              <a:off x="4982400" y="1823040"/>
              <a:ext cx="0" cy="1697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29"/>
            <p:cNvSpPr/>
            <p:nvPr/>
          </p:nvSpPr>
          <p:spPr>
            <a:xfrm>
              <a:off x="2357640" y="1509480"/>
              <a:ext cx="1637280" cy="8658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Кварцевание групповых комна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31"/>
            <p:cNvSpPr/>
            <p:nvPr/>
          </p:nvSpPr>
          <p:spPr>
            <a:xfrm>
              <a:off x="1335960" y="2456280"/>
              <a:ext cx="1637640" cy="866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Консультации «Неболейкина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33"/>
            <p:cNvSpPr/>
            <p:nvPr/>
          </p:nvSpPr>
          <p:spPr>
            <a:xfrm>
              <a:off x="992160" y="3486600"/>
              <a:ext cx="1637640" cy="866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Профилактика ОРЗ, грипп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035"/>
            <p:cNvSpPr/>
            <p:nvPr/>
          </p:nvSpPr>
          <p:spPr>
            <a:xfrm>
              <a:off x="1335960" y="4516560"/>
              <a:ext cx="1637640" cy="8658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Прогулки на свежем воздух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37"/>
            <p:cNvSpPr/>
            <p:nvPr/>
          </p:nvSpPr>
          <p:spPr>
            <a:xfrm>
              <a:off x="2364840" y="5496480"/>
              <a:ext cx="1637640" cy="866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Закали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039"/>
            <p:cNvSpPr/>
            <p:nvPr/>
          </p:nvSpPr>
          <p:spPr>
            <a:xfrm>
              <a:off x="4163400" y="5731200"/>
              <a:ext cx="1637640" cy="8661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Гимнастика после с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41"/>
            <p:cNvSpPr/>
            <p:nvPr/>
          </p:nvSpPr>
          <p:spPr>
            <a:xfrm>
              <a:off x="5960160" y="5496480"/>
              <a:ext cx="1637640" cy="8661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Мину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релакс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43"/>
            <p:cNvSpPr/>
            <p:nvPr/>
          </p:nvSpPr>
          <p:spPr>
            <a:xfrm>
              <a:off x="6989040" y="4514760"/>
              <a:ext cx="1637640" cy="8661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Организация двигательной актив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45"/>
            <p:cNvSpPr/>
            <p:nvPr/>
          </p:nvSpPr>
          <p:spPr>
            <a:xfrm>
              <a:off x="7418520" y="3484800"/>
              <a:ext cx="1637640" cy="8658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Массаж </a:t>
              </a: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  </a:t>
              </a: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по   А.А. Уман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47"/>
            <p:cNvSpPr/>
            <p:nvPr/>
          </p:nvSpPr>
          <p:spPr>
            <a:xfrm>
              <a:off x="6989040" y="2454840"/>
              <a:ext cx="1637640" cy="8661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Пальчиков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гимнас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49"/>
            <p:cNvSpPr/>
            <p:nvPr/>
          </p:nvSpPr>
          <p:spPr>
            <a:xfrm>
              <a:off x="5960160" y="1509480"/>
              <a:ext cx="1637640" cy="86580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Фито и арома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терап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51"/>
            <p:cNvSpPr/>
            <p:nvPr/>
          </p:nvSpPr>
          <p:spPr>
            <a:xfrm>
              <a:off x="4161960" y="1197000"/>
              <a:ext cx="1637280" cy="8661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Утренняя гимнас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52"/>
            <p:cNvSpPr/>
            <p:nvPr/>
          </p:nvSpPr>
          <p:spPr>
            <a:xfrm>
              <a:off x="3821400" y="3306960"/>
              <a:ext cx="2318400" cy="1224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</a:rPr>
                <a:t>Физкультурно-оздоровительная рабо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_s1028"/>
          <p:cNvSpPr/>
          <p:nvPr/>
        </p:nvSpPr>
        <p:spPr>
          <a:xfrm>
            <a:off x="773280" y="692280"/>
            <a:ext cx="8375400" cy="98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онно-методическое и материа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еспечение оздоровле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30720" y="692280"/>
            <a:ext cx="8646120" cy="5256000"/>
            <a:chOff x="630720" y="692280"/>
            <a:chExt cx="8646120" cy="5256000"/>
          </a:xfrm>
        </p:grpSpPr>
        <p:sp>
          <p:nvSpPr>
            <p:cNvPr id="101" name="_s1033"/>
            <p:cNvSpPr/>
            <p:nvPr/>
          </p:nvSpPr>
          <p:spPr>
            <a:xfrm>
              <a:off x="7399800" y="2200320"/>
              <a:ext cx="1877040" cy="80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Актив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тд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3"/>
            <p:cNvSpPr/>
            <p:nvPr/>
          </p:nvSpPr>
          <p:spPr>
            <a:xfrm>
              <a:off x="5239800" y="2200320"/>
              <a:ext cx="187308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исте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закали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3"/>
            <p:cNvSpPr/>
            <p:nvPr/>
          </p:nvSpPr>
          <p:spPr>
            <a:xfrm>
              <a:off x="2937240" y="2200320"/>
              <a:ext cx="187128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здоровитель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б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3"/>
            <p:cNvSpPr/>
            <p:nvPr/>
          </p:nvSpPr>
          <p:spPr>
            <a:xfrm>
              <a:off x="630720" y="2200320"/>
              <a:ext cx="194544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истем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двигатель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актив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33"/>
            <p:cNvSpPr/>
            <p:nvPr/>
          </p:nvSpPr>
          <p:spPr>
            <a:xfrm>
              <a:off x="630720" y="3355560"/>
              <a:ext cx="1873080" cy="2592720"/>
            </a:xfrm>
            <a:custGeom>
              <a:avLst/>
              <a:gdLst>
                <a:gd name="textAreaLeft" fmla="*/ 91440 w 1873080"/>
                <a:gd name="textAreaRight" fmla="*/ 1781640 w 1873080"/>
                <a:gd name="textAreaTop" fmla="*/ 91440 h 2592720"/>
                <a:gd name="textAreaBottom" fmla="*/ 2501280 h 2592720"/>
              </a:gdLst>
              <a:ahLst/>
              <a:rect l="textAreaLeft" t="textAreaTop" r="textAreaRight" b="textAreaBottom"/>
              <a:pathLst>
                <a:path w="21600" h="29897">
                  <a:moveTo>
                    <a:pt x="3600" y="0"/>
                  </a:moveTo>
                  <a:arcTo wR="3600" hR="3600" stAng="16200000" swAng="-5400000"/>
                  <a:lnTo>
                    <a:pt x="0" y="26297"/>
                  </a:lnTo>
                  <a:arcTo wR="3600" hR="3600" stAng="10800000" swAng="-5400000"/>
                  <a:lnTo>
                    <a:pt x="18000" y="29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трення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имнастика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Физкультур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нятия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Подвиж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гр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Физминутки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имнастик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сле сна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альчиков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имнастика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33cc"/>
                  </a:solidFill>
                  <a:latin typeface="Arial"/>
                </a:rPr>
                <a:t>и т.д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3"/>
            <p:cNvSpPr/>
            <p:nvPr/>
          </p:nvSpPr>
          <p:spPr>
            <a:xfrm>
              <a:off x="3007440" y="3355560"/>
              <a:ext cx="1801440" cy="2592720"/>
            </a:xfrm>
            <a:custGeom>
              <a:avLst/>
              <a:gdLst>
                <a:gd name="textAreaLeft" fmla="*/ 87840 w 1801440"/>
                <a:gd name="textAreaRight" fmla="*/ 1713600 w 1801440"/>
                <a:gd name="textAreaTop" fmla="*/ 87840 h 2592720"/>
                <a:gd name="textAreaBottom" fmla="*/ 2504880 h 2592720"/>
              </a:gdLst>
              <a:ahLst/>
              <a:rect l="textAreaLeft" t="textAreaTop" r="textAreaRight" b="textAreaBottom"/>
              <a:pathLst>
                <a:path w="21600" h="31086">
                  <a:moveTo>
                    <a:pt x="3600" y="0"/>
                  </a:moveTo>
                  <a:arcTo wR="3600" hR="3600" stAng="16200000" swAng="-5400000"/>
                  <a:lnTo>
                    <a:pt x="0" y="27486"/>
                  </a:lnTo>
                  <a:arcTo wR="3600" hR="3600" stAng="10800000" swAng="-5400000"/>
                  <a:lnTo>
                    <a:pt x="18000" y="310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Профилак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(лечебн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профилактическ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процедуры)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Адаптоген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-Фитотерапи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-Ароматерап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5313960" y="3355560"/>
              <a:ext cx="1762920" cy="2592720"/>
            </a:xfrm>
            <a:custGeom>
              <a:avLst/>
              <a:gdLst>
                <a:gd name="textAreaLeft" fmla="*/ 86040 w 1762920"/>
                <a:gd name="textAreaRight" fmla="*/ 1676880 w 1762920"/>
                <a:gd name="textAreaTop" fmla="*/ 86040 h 2592720"/>
                <a:gd name="textAreaBottom" fmla="*/ 2506680 h 2592720"/>
              </a:gdLst>
              <a:ahLst/>
              <a:rect l="textAreaLeft" t="textAreaTop" r="textAreaRight" b="textAreaBottom"/>
              <a:pathLst>
                <a:path w="21600" h="31765">
                  <a:moveTo>
                    <a:pt x="3600" y="0"/>
                  </a:moveTo>
                  <a:arcTo wR="3600" hR="3600" stAng="16200000" swAng="-5400000"/>
                  <a:lnTo>
                    <a:pt x="0" y="28165"/>
                  </a:lnTo>
                  <a:arcTo wR="3600" hR="3600" stAng="10800000" swAng="-5400000"/>
                  <a:lnTo>
                    <a:pt x="18000" y="317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В повседнев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 </a:t>
              </a: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жизни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Облегчен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фор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дежд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Сон с доступ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здуха и т.д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Специальн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 </a:t>
              </a: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организованные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лоска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ор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тварами трав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3"/>
            <p:cNvSpPr/>
            <p:nvPr/>
          </p:nvSpPr>
          <p:spPr>
            <a:xfrm>
              <a:off x="7464240" y="3355560"/>
              <a:ext cx="1774440" cy="2592720"/>
            </a:xfrm>
            <a:custGeom>
              <a:avLst/>
              <a:gdLst>
                <a:gd name="textAreaLeft" fmla="*/ 86400 w 1774440"/>
                <a:gd name="textAreaRight" fmla="*/ 1688040 w 1774440"/>
                <a:gd name="textAreaTop" fmla="*/ 86400 h 2592720"/>
                <a:gd name="textAreaBottom" fmla="*/ 2506320 h 2592720"/>
              </a:gdLst>
              <a:ahLst/>
              <a:rect l="textAreaLeft" t="textAreaTop" r="textAreaRight" b="textAreaBottom"/>
              <a:pathLst>
                <a:path w="21600" h="31559">
                  <a:moveTo>
                    <a:pt x="3600" y="0"/>
                  </a:moveTo>
                  <a:arcTo wR="3600" hR="3600" stAng="16200000" swAng="-5400000"/>
                  <a:lnTo>
                    <a:pt x="0" y="27959"/>
                  </a:lnTo>
                  <a:arcTo wR="3600" hR="3600" stAng="10800000" swAng="-5400000"/>
                  <a:lnTo>
                    <a:pt x="18000" y="315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движные игр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ни здоровь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портив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аздники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осуг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28"/>
            <p:cNvSpPr/>
            <p:nvPr/>
          </p:nvSpPr>
          <p:spPr>
            <a:xfrm>
              <a:off x="773280" y="692280"/>
              <a:ext cx="8374320" cy="986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Система воспитательно-образовательной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оздоровительной и профилактической рабо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496880" y="1916280"/>
            <a:ext cx="6840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1652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9688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3760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688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7688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9688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7360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3760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24520" y="170028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_s1028"/>
          <p:cNvSpPr/>
          <p:nvPr/>
        </p:nvSpPr>
        <p:spPr>
          <a:xfrm>
            <a:off x="773280" y="692280"/>
            <a:ext cx="8375400" cy="98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онно-методическое и материа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еспечение оздоровле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43440" y="692280"/>
            <a:ext cx="9362160" cy="5256000"/>
            <a:chOff x="343440" y="692280"/>
            <a:chExt cx="9362160" cy="5256000"/>
          </a:xfrm>
        </p:grpSpPr>
        <p:sp>
          <p:nvSpPr>
            <p:cNvPr id="124" name="_s1033"/>
            <p:cNvSpPr/>
            <p:nvPr/>
          </p:nvSpPr>
          <p:spPr>
            <a:xfrm>
              <a:off x="7567200" y="2200320"/>
              <a:ext cx="1920600" cy="80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емь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3369600" y="2200320"/>
              <a:ext cx="346140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здоровительная раб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33"/>
            <p:cNvSpPr/>
            <p:nvPr/>
          </p:nvSpPr>
          <p:spPr>
            <a:xfrm>
              <a:off x="561240" y="2200320"/>
              <a:ext cx="1990800" cy="81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едагоги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медперсона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3"/>
            <p:cNvSpPr/>
            <p:nvPr/>
          </p:nvSpPr>
          <p:spPr>
            <a:xfrm>
              <a:off x="7864560" y="3355560"/>
              <a:ext cx="1841040" cy="1437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Анкетиро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Дни здоровь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Собр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Совмест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мероприят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28"/>
            <p:cNvSpPr/>
            <p:nvPr/>
          </p:nvSpPr>
          <p:spPr>
            <a:xfrm>
              <a:off x="786600" y="692280"/>
              <a:ext cx="8569080" cy="986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Система</a:t>
              </a: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работы  по формирован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представлений и навыков здорового образа жиз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у воспитанников  ДО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33"/>
            <p:cNvSpPr/>
            <p:nvPr/>
          </p:nvSpPr>
          <p:spPr>
            <a:xfrm>
              <a:off x="1379160" y="5153400"/>
              <a:ext cx="7462080" cy="79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Воспитанники ДО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3"/>
            <p:cNvSpPr/>
            <p:nvPr/>
          </p:nvSpPr>
          <p:spPr>
            <a:xfrm>
              <a:off x="343440" y="3355560"/>
              <a:ext cx="1880280" cy="1426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- Изу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программ иннов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Планирование 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провед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оздоровитель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мероприятий, бесед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- Оборудование сред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3"/>
            <p:cNvSpPr/>
            <p:nvPr/>
          </p:nvSpPr>
          <p:spPr>
            <a:xfrm>
              <a:off x="3369600" y="3718080"/>
              <a:ext cx="345924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5050"/>
                  </a:solidFill>
                  <a:latin typeface="Arial"/>
                </a:rPr>
                <a:t>ШКОЛА     ЗДОРОВЬ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Консультирование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бесед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8624880" y="29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4520" y="2565360"/>
            <a:ext cx="719280" cy="180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76520" y="2565360"/>
            <a:ext cx="792000" cy="180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96880" y="29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24520" y="4076640"/>
            <a:ext cx="10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16160" y="4076640"/>
            <a:ext cx="1152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553600" y="47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68520" y="47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7"/>
          <p:cNvSpPr/>
          <p:nvPr/>
        </p:nvSpPr>
        <p:spPr>
          <a:xfrm>
            <a:off x="200160" y="642960"/>
            <a:ext cx="9505800" cy="8254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истема контроля работы ДО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о сохранению и укреплению здоровь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930240" y="1776600"/>
            <a:ext cx="8011080" cy="4179600"/>
            <a:chOff x="930240" y="1776600"/>
            <a:chExt cx="8011080" cy="4179600"/>
          </a:xfrm>
        </p:grpSpPr>
        <p:sp>
          <p:nvSpPr>
            <p:cNvPr id="146" name="_s43061"/>
            <p:cNvSpPr/>
            <p:nvPr/>
          </p:nvSpPr>
          <p:spPr>
            <a:xfrm flipH="1" flipV="1">
              <a:off x="3335760" y="3268800"/>
              <a:ext cx="802440" cy="338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43060"/>
            <p:cNvSpPr/>
            <p:nvPr/>
          </p:nvSpPr>
          <p:spPr>
            <a:xfrm>
              <a:off x="1519920" y="2390040"/>
              <a:ext cx="2041560" cy="10850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рритор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ского са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43059"/>
            <p:cNvSpPr/>
            <p:nvPr/>
          </p:nvSpPr>
          <p:spPr>
            <a:xfrm flipH="1">
              <a:off x="2941560" y="4065120"/>
              <a:ext cx="998280" cy="123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43058"/>
            <p:cNvSpPr/>
            <p:nvPr/>
          </p:nvSpPr>
          <p:spPr>
            <a:xfrm>
              <a:off x="930240" y="3768120"/>
              <a:ext cx="2041560" cy="10850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ск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43065"/>
            <p:cNvSpPr/>
            <p:nvPr/>
          </p:nvSpPr>
          <p:spPr>
            <a:xfrm flipH="1">
              <a:off x="4048200" y="4432680"/>
              <a:ext cx="441720" cy="490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43064"/>
            <p:cNvSpPr/>
            <p:nvPr/>
          </p:nvSpPr>
          <p:spPr>
            <a:xfrm>
              <a:off x="2589840" y="4871160"/>
              <a:ext cx="2042280" cy="10850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 прове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монт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43063"/>
            <p:cNvSpPr/>
            <p:nvPr/>
          </p:nvSpPr>
          <p:spPr>
            <a:xfrm>
              <a:off x="5374800" y="4432680"/>
              <a:ext cx="444600" cy="490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43062"/>
            <p:cNvSpPr/>
            <p:nvPr/>
          </p:nvSpPr>
          <p:spPr>
            <a:xfrm>
              <a:off x="5245560" y="4869360"/>
              <a:ext cx="2041560" cy="10854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43057"/>
            <p:cNvSpPr/>
            <p:nvPr/>
          </p:nvSpPr>
          <p:spPr>
            <a:xfrm>
              <a:off x="5925240" y="4066920"/>
              <a:ext cx="998280" cy="119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43056"/>
            <p:cNvSpPr/>
            <p:nvPr/>
          </p:nvSpPr>
          <p:spPr>
            <a:xfrm>
              <a:off x="6899760" y="3764880"/>
              <a:ext cx="2041560" cy="10850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ерсона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43055"/>
            <p:cNvSpPr/>
            <p:nvPr/>
          </p:nvSpPr>
          <p:spPr>
            <a:xfrm flipV="1">
              <a:off x="5729400" y="3268800"/>
              <a:ext cx="799560" cy="338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43054"/>
            <p:cNvSpPr/>
            <p:nvPr/>
          </p:nvSpPr>
          <p:spPr>
            <a:xfrm>
              <a:off x="6307200" y="2388240"/>
              <a:ext cx="2041560" cy="1085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чебно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спитательн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цесс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43053"/>
            <p:cNvSpPr/>
            <p:nvPr/>
          </p:nvSpPr>
          <p:spPr>
            <a:xfrm flipV="1">
              <a:off x="4933080" y="2859840"/>
              <a:ext cx="0" cy="545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43052"/>
            <p:cNvSpPr/>
            <p:nvPr/>
          </p:nvSpPr>
          <p:spPr>
            <a:xfrm>
              <a:off x="3913560" y="1776600"/>
              <a:ext cx="2041560" cy="10850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мещения д/с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вяза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 пребывани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е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43051"/>
            <p:cNvSpPr/>
            <p:nvPr/>
          </p:nvSpPr>
          <p:spPr>
            <a:xfrm>
              <a:off x="3913560" y="3405240"/>
              <a:ext cx="2041560" cy="108504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Контролируем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материа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00160" y="620640"/>
            <a:ext cx="950580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организации учебно-воспит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270800" y="1548000"/>
            <a:ext cx="7509240" cy="5172480"/>
            <a:chOff x="1270800" y="1548000"/>
            <a:chExt cx="7509240" cy="5172480"/>
          </a:xfrm>
        </p:grpSpPr>
        <p:sp>
          <p:nvSpPr>
            <p:cNvPr id="165" name="_s54297"/>
            <p:cNvSpPr/>
            <p:nvPr/>
          </p:nvSpPr>
          <p:spPr>
            <a:xfrm flipH="1" flipV="1">
              <a:off x="3213360" y="3487320"/>
              <a:ext cx="910080" cy="3254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54298"/>
            <p:cNvSpPr/>
            <p:nvPr/>
          </p:nvSpPr>
          <p:spPr>
            <a:xfrm>
              <a:off x="1270800" y="2519640"/>
              <a:ext cx="2087280" cy="12934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литель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ня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(перерывов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54299"/>
            <p:cNvSpPr/>
            <p:nvPr/>
          </p:nvSpPr>
          <p:spPr>
            <a:xfrm flipH="1">
              <a:off x="3216960" y="4457520"/>
              <a:ext cx="909360" cy="3254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54300"/>
            <p:cNvSpPr/>
            <p:nvPr/>
          </p:nvSpPr>
          <p:spPr>
            <a:xfrm>
              <a:off x="1274400" y="4458960"/>
              <a:ext cx="2086920" cy="12934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облю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омен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54301"/>
            <p:cNvSpPr/>
            <p:nvPr/>
          </p:nvSpPr>
          <p:spPr>
            <a:xfrm>
              <a:off x="5027040" y="4777200"/>
              <a:ext cx="0" cy="6516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54302"/>
            <p:cNvSpPr/>
            <p:nvPr/>
          </p:nvSpPr>
          <p:spPr>
            <a:xfrm>
              <a:off x="3985200" y="5427000"/>
              <a:ext cx="2086920" cy="12934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це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едагогиче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иагност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54303"/>
            <p:cNvSpPr/>
            <p:nvPr/>
          </p:nvSpPr>
          <p:spPr>
            <a:xfrm>
              <a:off x="5924880" y="4455360"/>
              <a:ext cx="909360" cy="3240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54304"/>
            <p:cNvSpPr/>
            <p:nvPr/>
          </p:nvSpPr>
          <p:spPr>
            <a:xfrm>
              <a:off x="6693120" y="4457520"/>
              <a:ext cx="2086920" cy="12934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Налич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доровьесберегающ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омен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 ходе заня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54305"/>
            <p:cNvSpPr/>
            <p:nvPr/>
          </p:nvSpPr>
          <p:spPr>
            <a:xfrm flipV="1">
              <a:off x="5924880" y="3485880"/>
              <a:ext cx="906840" cy="3254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54306"/>
            <p:cNvSpPr/>
            <p:nvPr/>
          </p:nvSpPr>
          <p:spPr>
            <a:xfrm>
              <a:off x="6693120" y="2517480"/>
              <a:ext cx="2086920" cy="12938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це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ет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нятий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54307"/>
            <p:cNvSpPr/>
            <p:nvPr/>
          </p:nvSpPr>
          <p:spPr>
            <a:xfrm flipV="1">
              <a:off x="5024520" y="2839320"/>
              <a:ext cx="0" cy="6490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54308"/>
            <p:cNvSpPr/>
            <p:nvPr/>
          </p:nvSpPr>
          <p:spPr>
            <a:xfrm>
              <a:off x="3982320" y="1548000"/>
              <a:ext cx="2086920" cy="12934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ланир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спитательно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разовательной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54309"/>
            <p:cNvSpPr/>
            <p:nvPr/>
          </p:nvSpPr>
          <p:spPr>
            <a:xfrm>
              <a:off x="3982320" y="3489120"/>
              <a:ext cx="2086920" cy="12938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272880" y="642960"/>
            <a:ext cx="943308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оздорови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2080" y="1675080"/>
            <a:ext cx="6648120" cy="4513320"/>
            <a:chOff x="1702080" y="1675080"/>
            <a:chExt cx="6648120" cy="4513320"/>
          </a:xfrm>
        </p:grpSpPr>
        <p:sp>
          <p:nvSpPr>
            <p:cNvPr id="182" name="_s55319"/>
            <p:cNvSpPr/>
            <p:nvPr/>
          </p:nvSpPr>
          <p:spPr>
            <a:xfrm flipH="1" flipV="1">
              <a:off x="3422160" y="3367080"/>
              <a:ext cx="805680" cy="2840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55320"/>
            <p:cNvSpPr/>
            <p:nvPr/>
          </p:nvSpPr>
          <p:spPr>
            <a:xfrm>
              <a:off x="1702080" y="2522880"/>
              <a:ext cx="1847880" cy="1128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Анали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сещаем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ьми д/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55321"/>
            <p:cNvSpPr/>
            <p:nvPr/>
          </p:nvSpPr>
          <p:spPr>
            <a:xfrm flipH="1">
              <a:off x="3425040" y="4213800"/>
              <a:ext cx="804960" cy="2840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55322"/>
            <p:cNvSpPr/>
            <p:nvPr/>
          </p:nvSpPr>
          <p:spPr>
            <a:xfrm>
              <a:off x="1705320" y="4215240"/>
              <a:ext cx="1847520" cy="1128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Анализ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эффектив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55323"/>
            <p:cNvSpPr/>
            <p:nvPr/>
          </p:nvSpPr>
          <p:spPr>
            <a:xfrm>
              <a:off x="5027760" y="4492800"/>
              <a:ext cx="0" cy="5688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55324"/>
            <p:cNvSpPr/>
            <p:nvPr/>
          </p:nvSpPr>
          <p:spPr>
            <a:xfrm>
              <a:off x="4105080" y="5059800"/>
              <a:ext cx="1847520" cy="1128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ал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«Програм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е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55325"/>
            <p:cNvSpPr/>
            <p:nvPr/>
          </p:nvSpPr>
          <p:spPr>
            <a:xfrm>
              <a:off x="5822640" y="4212000"/>
              <a:ext cx="804960" cy="2826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55326"/>
            <p:cNvSpPr/>
            <p:nvPr/>
          </p:nvSpPr>
          <p:spPr>
            <a:xfrm>
              <a:off x="6502680" y="4213800"/>
              <a:ext cx="1847520" cy="1128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ыполн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лечебно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филактическ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цеду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55327"/>
            <p:cNvSpPr/>
            <p:nvPr/>
          </p:nvSpPr>
          <p:spPr>
            <a:xfrm flipV="1">
              <a:off x="5822640" y="3365640"/>
              <a:ext cx="802800" cy="2840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55328"/>
            <p:cNvSpPr/>
            <p:nvPr/>
          </p:nvSpPr>
          <p:spPr>
            <a:xfrm>
              <a:off x="6502680" y="2521080"/>
              <a:ext cx="1847520" cy="11289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Анали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болеваемост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ей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55329"/>
            <p:cNvSpPr/>
            <p:nvPr/>
          </p:nvSpPr>
          <p:spPr>
            <a:xfrm flipV="1">
              <a:off x="5025240" y="2801880"/>
              <a:ext cx="0" cy="5662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55330"/>
            <p:cNvSpPr/>
            <p:nvPr/>
          </p:nvSpPr>
          <p:spPr>
            <a:xfrm>
              <a:off x="4102560" y="1675080"/>
              <a:ext cx="1847520" cy="1128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ыполн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ероприя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55331"/>
            <p:cNvSpPr/>
            <p:nvPr/>
          </p:nvSpPr>
          <p:spPr>
            <a:xfrm>
              <a:off x="4102560" y="3368880"/>
              <a:ext cx="1847520" cy="11289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2880" y="642960"/>
            <a:ext cx="943308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организации детского пит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332720" y="1675080"/>
            <a:ext cx="7387560" cy="4513320"/>
            <a:chOff x="1332720" y="1675080"/>
            <a:chExt cx="7387560" cy="4513320"/>
          </a:xfrm>
        </p:grpSpPr>
        <p:sp>
          <p:nvSpPr>
            <p:cNvPr id="199" name="_s56343"/>
            <p:cNvSpPr/>
            <p:nvPr/>
          </p:nvSpPr>
          <p:spPr>
            <a:xfrm flipH="1" flipV="1">
              <a:off x="3718800" y="313272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56344"/>
            <p:cNvSpPr/>
            <p:nvPr/>
          </p:nvSpPr>
          <p:spPr>
            <a:xfrm>
              <a:off x="2143440" y="2170440"/>
              <a:ext cx="1847520" cy="1128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56345"/>
            <p:cNvSpPr/>
            <p:nvPr/>
          </p:nvSpPr>
          <p:spPr>
            <a:xfrm flipH="1">
              <a:off x="317700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56346"/>
            <p:cNvSpPr/>
            <p:nvPr/>
          </p:nvSpPr>
          <p:spPr>
            <a:xfrm>
              <a:off x="1332720" y="3367440"/>
              <a:ext cx="1847520" cy="1128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анитарно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тиво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эпидемиолог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56347"/>
            <p:cNvSpPr/>
            <p:nvPr/>
          </p:nvSpPr>
          <p:spPr>
            <a:xfrm flipH="1">
              <a:off x="3718800" y="432864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56348"/>
            <p:cNvSpPr/>
            <p:nvPr/>
          </p:nvSpPr>
          <p:spPr>
            <a:xfrm>
              <a:off x="2143440" y="4564440"/>
              <a:ext cx="1847520" cy="1128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еспечен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судой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ем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з. средств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56349"/>
            <p:cNvSpPr/>
            <p:nvPr/>
          </p:nvSpPr>
          <p:spPr>
            <a:xfrm>
              <a:off x="5025240" y="4492800"/>
              <a:ext cx="0" cy="5666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56350"/>
            <p:cNvSpPr/>
            <p:nvPr/>
          </p:nvSpPr>
          <p:spPr>
            <a:xfrm>
              <a:off x="4102560" y="5059800"/>
              <a:ext cx="1847520" cy="1128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хническ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справ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орудования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56351"/>
            <p:cNvSpPr/>
            <p:nvPr/>
          </p:nvSpPr>
          <p:spPr>
            <a:xfrm>
              <a:off x="5675760" y="432864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56352"/>
            <p:cNvSpPr/>
            <p:nvPr/>
          </p:nvSpPr>
          <p:spPr>
            <a:xfrm>
              <a:off x="6062040" y="4564440"/>
              <a:ext cx="1847520" cy="1128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ерсона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56353"/>
            <p:cNvSpPr/>
            <p:nvPr/>
          </p:nvSpPr>
          <p:spPr>
            <a:xfrm>
              <a:off x="594468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56354"/>
            <p:cNvSpPr/>
            <p:nvPr/>
          </p:nvSpPr>
          <p:spPr>
            <a:xfrm>
              <a:off x="6872760" y="3367440"/>
              <a:ext cx="1847520" cy="1128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дук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56355"/>
            <p:cNvSpPr/>
            <p:nvPr/>
          </p:nvSpPr>
          <p:spPr>
            <a:xfrm flipV="1">
              <a:off x="5675760" y="313272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56356"/>
            <p:cNvSpPr/>
            <p:nvPr/>
          </p:nvSpPr>
          <p:spPr>
            <a:xfrm>
              <a:off x="6062040" y="2170440"/>
              <a:ext cx="1847520" cy="11286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хн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извод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щи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56357"/>
            <p:cNvSpPr/>
            <p:nvPr/>
          </p:nvSpPr>
          <p:spPr>
            <a:xfrm flipV="1">
              <a:off x="5025240" y="2801880"/>
              <a:ext cx="0" cy="5662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56358"/>
            <p:cNvSpPr/>
            <p:nvPr/>
          </p:nvSpPr>
          <p:spPr>
            <a:xfrm>
              <a:off x="4102560" y="1675080"/>
              <a:ext cx="1847520" cy="11286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ци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56359"/>
            <p:cNvSpPr/>
            <p:nvPr/>
          </p:nvSpPr>
          <p:spPr>
            <a:xfrm>
              <a:off x="4102560" y="3368880"/>
              <a:ext cx="1847520" cy="11289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06:19:39Z</dcterms:created>
  <dc:creator>11</dc:creator>
  <dc:description/>
  <dc:language>en-US</dc:language>
  <cp:lastModifiedBy>777</cp:lastModifiedBy>
  <dcterms:modified xsi:type="dcterms:W3CDTF">2012-04-13T09:04:08Z</dcterms:modified>
  <cp:revision>401</cp:revision>
  <dc:subject/>
  <dc:title>Слайд 1</dc:title>
</cp:coreProperties>
</file>